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BC32A-5EEC-41B1-BE6E-4A14E2A122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BC11C-310E-407F-8D8B-5EED17ED45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BCC76-5EA8-42AE-9E2A-D90D0D03D1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438D8-7CFF-4514-ADA7-51E44413E7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DF90F-30ED-4731-9D4C-2ACFA32983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BC36F-893D-49AD-BD93-A91ACFEECE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9B869-1C12-4884-9A5A-2C39CBD956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9884A-A6DF-426E-B7BD-9C1D167567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9D0D6-BC51-4CFF-A93E-61F71A9E0F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18989-159F-4591-8246-147E55F5FD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EA720-C717-4647-8C09-4A6586BF81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E941D-E4E8-43CF-956F-18E2BDB17A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E7626-0A6D-4D00-9ABB-772138E2DC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7D90-7B2D-48F9-B291-6B4513BB5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23E3-EAC8-483A-B4FA-82320FA61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950E-EB09-41F9-9C02-3B1737869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AABE-2B08-4042-9E58-2EC190075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9490-3D8B-43F7-8E63-614BAEE86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F3A5-EA2D-4A85-A21E-292ED5E0B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BB76-5E16-4B4D-902C-6335B90C8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2F7F-51C4-4374-8C30-297FB3D23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2E48-A470-425F-B8BF-817BFAA93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B5EC-148F-42E4-8A5D-F7214744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EE18-AD3D-4957-A4DE-22DD9D787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843F-0FC4-400A-8080-52C3E277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B86C8-0C88-4D45-BFEC-B3BB11A05A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carolinagolflinks.com/images/wilmington__nc.jpg&amp;imgrefurl=http://www.carolinagolflinks.com/NC_Courses.html&amp;usg=__gLQfjy0AIYuxhPeUR58u54nbd_Q=&amp;h=805&amp;w=1200&amp;sz=520&amp;hl=en&amp;start=0&amp;zoom=1&amp;tbnid=8Lo1H41yMYJ4VM:&amp;tbnh=164&amp;tbnw=214&amp;prev=/images%3Fq%3Dwilmington,%2Bnc%26um%3D1%26hl%3Den%26rlz%3D1G1GGLQ_ENUS312%26biw%3D1280%26bih%3D683%26tbs%3Disch:1&amp;um=1&amp;itbs=1&amp;iact=rc&amp;dur=410&amp;ei=gGdxTNWgL8H38AaqxOX9Cg&amp;oei=gGdxTNWgL8H38AaqxOX9Cg&amp;esq=1&amp;page=1&amp;ndsp=15&amp;ved=1t:429,r:5,s:0&amp;tx=93&amp;ty=135" TargetMode="External"/><Relationship Id="rId2" Type="http://schemas.openxmlformats.org/officeDocument/2006/relationships/hyperlink" Target="file:///=gGdxTNWgL8H38AaqxOX9Cg&amp;esq=1&amp;page=1&amp;ndsp=15&amp;ved=1t:429,r:5,s:0&amp;tx=93&amp;ty=135" TargetMode="External"/><Relationship Id="rId3" Type="http://schemas.openxmlformats.org/officeDocument/2006/relationships/hyperlink" Target="http://www.google.com/imgres?imgurl=http://www.ryancombs.com/image/UNCG_Logo.gif&amp;imgrefurl=http://www.ryancombs.com/edu.htm&amp;usg=__Bb4ANtJJ_2JwjTXG0UaW5FpmoDM=&amp;h=168&amp;w=180&amp;sz=9&amp;hl=en&amp;start=0&amp;zoom=1&amp;tbnid=IijmwJavMV9iGM:&amp;tbnh=134&amp;tbnw=144&amp;prev=/images%3Fq%3Duncg%26um%3D1%26hl%3Den%26rlz%3D1G1GGLQ_ENUS312%26biw%3D1280%26bih%3D683%26tbs%3Disch:10,200&amp;um=1&amp;itbs=1&amp;iact=rc&amp;dur=319&amp;ei=pWdxTLi1A8T38AbC5JnyCg&amp;oei=pWdxTLi1A8T38AbC5JnyCg&amp;esq=1&amp;page=1&amp;ndsp=16&amp;ved=1t:429,r:13,s:0&amp;tx=107&amp;ty=56&amp;biw=1280&amp;bih=683" TargetMode="External"/><Relationship Id="rId4" Type="http://schemas.openxmlformats.org/officeDocument/2006/relationships/hyperlink" Target="file:///AbC5JnyCg&amp;esq=1&amp;page=1&amp;ndsp=16&amp;ved=1t:429,r:13,s:0&amp;tx=107&amp;ty=56&amp;biw=1280&amp;bih=683" TargetMode="External"/><Relationship Id="rId5" Type="http://schemas.openxmlformats.org/officeDocument/2006/relationships/hyperlink" Target="http://www.google.com/imgres?imgurl=http://ure.uncg.edu/inspirechange/wp-content/uploads/2009/11/euc_ttl.jpg&amp;imgrefurl=http://ure.uncg.edu/inspirechange/2009/11/center-of-it-all/&amp;usg=__3nAapPCOBVe16HmRt4Rir4I4gng=&amp;h=469&amp;w=612&amp;sz=48&amp;hl=en&amp;start=0&amp;zoom=1&amp;tbnid=ED6CAVnQ_s80IM:&amp;tbnh=120&amp;tbnw=168&amp;prev=/images%3Fq%3Duncg-%2Beuc%26um%3D1%26hl%3Den%26rlz%3D1G1GGLQ_ENUS312%26biw%3D1280%26bih%3D683%26tbs%3Disch:1&amp;um=1&amp;itbs=1&amp;iact=hc&amp;vpx=670&amp;vpy=79&amp;dur=267&amp;hovh=135&amp;hovw=177&amp;tx=105&amp;ty=101&amp;ei=02dxTKGHLcP98Aakk534Cg&amp;oei=02dxTKGHLcP98Aakk534Cg&amp;esq=1&amp;page=1&amp;ndsp=26&amp;ved=1t:429,r:3,s:0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609480"/>
            <a:ext cx="845820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Lucida Handwriting"/>
              </a:rPr>
              <a:t>All About Ms. Bats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057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58ed5"/>
                </a:solidFill>
                <a:latin typeface="Calibri"/>
              </a:rPr>
              <a:t>July 17, 20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3352680" y="3048120"/>
            <a:ext cx="2210040" cy="331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7c80"/>
                </a:solidFill>
                <a:latin typeface="Bradley Hand ITC"/>
              </a:rPr>
              <a:t>I love working with students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9" descr="DSCN1792.JPG"/>
          <p:cNvPicPr/>
          <p:nvPr/>
        </p:nvPicPr>
        <p:blipFill>
          <a:blip r:embed="rId1"/>
          <a:stretch/>
        </p:blipFill>
        <p:spPr>
          <a:xfrm>
            <a:off x="1066680" y="1143000"/>
            <a:ext cx="3505320" cy="2629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4419720" y="3200400"/>
            <a:ext cx="4495680" cy="33717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"/>
          <p:cNvPicPr/>
          <p:nvPr/>
        </p:nvPicPr>
        <p:blipFill>
          <a:blip r:embed="rId3"/>
          <a:stretch/>
        </p:blipFill>
        <p:spPr>
          <a:xfrm>
            <a:off x="304920" y="396252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c80"/>
              </a:solidFill>
              <a:latin typeface="Script MT Bold"/>
            </a:endParaRPr>
          </a:p>
        </p:txBody>
      </p:sp>
      <p:pic>
        <p:nvPicPr>
          <p:cNvPr id="98" name="Picture 4" descr="DSCN2224.JPG"/>
          <p:cNvPicPr/>
          <p:nvPr/>
        </p:nvPicPr>
        <p:blipFill>
          <a:blip r:embed="rId1"/>
          <a:stretch/>
        </p:blipFill>
        <p:spPr>
          <a:xfrm>
            <a:off x="4724280" y="380880"/>
            <a:ext cx="4038840" cy="3029040"/>
          </a:xfrm>
          <a:prstGeom prst="rect">
            <a:avLst/>
          </a:prstGeom>
          <a:ln w="0">
            <a:noFill/>
          </a:ln>
        </p:spPr>
      </p:pic>
      <p:pic>
        <p:nvPicPr>
          <p:cNvPr id="99" name="Content Placeholder 3" descr=""/>
          <p:cNvPicPr/>
          <p:nvPr/>
        </p:nvPicPr>
        <p:blipFill>
          <a:blip r:embed="rId2"/>
          <a:stretch/>
        </p:blipFill>
        <p:spPr>
          <a:xfrm>
            <a:off x="457200" y="91440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"/>
          <p:cNvPicPr/>
          <p:nvPr/>
        </p:nvPicPr>
        <p:blipFill>
          <a:blip r:embed="rId3"/>
          <a:stretch/>
        </p:blipFill>
        <p:spPr>
          <a:xfrm>
            <a:off x="4876920" y="3581280"/>
            <a:ext cx="4064040" cy="30481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"/>
          <p:cNvPicPr/>
          <p:nvPr/>
        </p:nvPicPr>
        <p:blipFill>
          <a:blip r:embed="rId4"/>
          <a:stretch/>
        </p:blipFill>
        <p:spPr>
          <a:xfrm>
            <a:off x="1371600" y="3708360"/>
            <a:ext cx="2190600" cy="292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7c80"/>
                </a:solidFill>
                <a:latin typeface="Bradley Hand ITC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00ff"/>
                </a:solidFill>
                <a:uFillTx/>
                <a:latin typeface="Corbel"/>
                <a:hlinkClick r:id="rId1"/>
              </a:rPr>
              <a:t>http://www.google.com/imgres?imgurl=http://www.carolinagolflinks.com/images/wilmington__nc.jpg&amp;imgrefurl=http://www.carolinagolflinks.com/NC_Courses.html&amp;usg=__gLQfjy0AIYuxhPeUR58u54nbd_Q=&amp;h=805&amp;w=1200&amp;sz=520&amp;hl=en&amp;start=0&amp;zoom=1&amp;tbnid=8Lo1H41yMYJ4VM:&amp;tbnh=164&amp;tbnw=214&amp;prev=/images%3Fq%3Dwilmington,%2Bnc%26um%3D1%26hl%3Den%26rlz%3D1G1GGLQ_ENUS312%26biw%3D1280%26bih%3D683%26tbs%3Disch:1&amp;um=1&amp;itbs=1&amp;iact=rc&amp;dur=410&amp;ei=gGdxTNWgL8H38AaqxOX9Cg&amp;oei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Corbel"/>
                <a:hlinkClick r:id="rId2"/>
              </a:rPr>
              <a:t>=gGdxTNWgL8H38AaqxOX9Cg&amp;esq=1&amp;page=1&amp;ndsp=15&amp;ved=1t:429,r:5,s:0&amp;tx=93&amp;ty=13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00ff"/>
                </a:solidFill>
                <a:uFillTx/>
                <a:latin typeface="Corbel"/>
                <a:hlinkClick r:id="rId3"/>
              </a:rPr>
              <a:t>http://www.google.com/imgres?imgurl=http://www.ryancombs.com/image/UNCG_Logo.gif&amp;imgrefurl=http://www.ryancombs.com/edu.htm&amp;usg=__Bb4ANtJJ_2JwjTXG0UaW5FpmoDM=&amp;h=168&amp;w=180&amp;sz=9&amp;hl=en&amp;start=0&amp;zoom=1&amp;tbnid=IijmwJavMV9iGM:&amp;tbnh=134&amp;tbnw=144&amp;prev=/images%3Fq%3Duncg%26um%3D1%26hl%3Den%26rlz%3D1G1GGLQ_ENUS312%26biw%3D1280%26bih%3D683%26tbs%3Disch:10,200&amp;um=1&amp;itbs=1&amp;iact=rc&amp;dur=319&amp;ei=pWdxTLi1A8T38AbC5JnyCg&amp;oei=pWdxTLi1A8T38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Corbel"/>
                <a:hlinkClick r:id="rId4"/>
              </a:rPr>
              <a:t>AbC5JnyCg&amp;esq=1&amp;page=1&amp;ndsp=16&amp;ved=1t:429,r:13,s:0&amp;tx=107&amp;ty=56&amp;biw=1280&amp;bih=68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00ff"/>
                </a:solidFill>
                <a:uFillTx/>
                <a:latin typeface="Corbel"/>
                <a:hlinkClick r:id="rId5"/>
              </a:rPr>
              <a:t>http://www.google.com/imgres?imgurl=http://ure.uncg.edu/inspirechange/wp-content/uploads/2009/11/euc_ttl.jpg&amp;imgrefurl=http://ure.uncg.edu/inspirechange/2009/11/center-of-it-all/&amp;usg=__3nAapPCOBVe16HmRt4Rir4I4gng=&amp;h=469&amp;w=612&amp;sz=48&amp;hl=en&amp;start=0&amp;zoom=1&amp;tbnid=ED6CAVnQ_s80IM:&amp;tbnh=120&amp;tbnw=168&amp;prev=/images%3Fq%3Duncg-%2Beuc%26um%3D1%26hl%3Den%26rlz%3D1G1GGLQ_ENUS312%26biw%3D1280%26bih%3D683%26tbs%3Disch:1&amp;um=1&amp;itbs=1&amp;iact=hc&amp;vpx=670&amp;vpy=79&amp;dur=267&amp;hovh=135&amp;hovw=177&amp;tx=105&amp;ty=101&amp;ei=02dxTKGHLcP98Aakk534Cg&amp;oei=02dxTKGHLcP98Aakk534Cg&amp;esq=1&amp;page=1&amp;ndsp=26&amp;ved=1t:429,r:3,s: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04040"/>
                </a:solidFill>
                <a:latin typeface="Corbel"/>
              </a:rPr>
              <a:t>http://www.google.com/imgres?imgurl=http://2.bp.blogspot.com/_9Ah69a4ImCA/SxFo43KLDWI/AAAAAAAAA6U/RW6Q7P8m-9g/s1600/toy-story-3-560x314.jpg&amp;imgrefurl=http://notinmybook.blogspot.com/&amp;usg=__aWKq4yHH9Bv0A--Hh2fQdnwerF8=&amp;h=314&amp;w=560&amp;sz=45&amp;hl=en&amp;start=0&amp;zoom=1&amp;tbnid=QfOCDPMq4a3QeM:&amp;tbnh=130&amp;tbnw=162&amp;prev=/images%3Fq%3Dtoy%2Bstory%2B3%26um%3D1%26hl%3Den%26sa%3DN%26rlz%3D1G1GGLQ_ENUS312%26biw%3D1280%26bih%3D683%26tbs%3Disch:1&amp;um=1&amp;itbs=1&amp;iact=rc&amp;dur=517&amp;ei=K2dxTMPXJYG88gbrstH8Cg&amp;oei=K2dxTMPXJYG88gbrstH8Cg&amp;esq=1&amp;page=1&amp;ndsp=20&amp;ved=1t:429,r:19,s:0&amp;tx=68&amp;ty=5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Bradley Hand ITC"/>
              </a:rPr>
              <a:t>I grew up on the coast of North Carolina in Wilmington.</a:t>
            </a:r>
            <a:r>
              <a:rPr b="0" lang="en-US" sz="4000" spc="-1" strike="noStrike">
                <a:solidFill>
                  <a:srgbClr val="ff7c80"/>
                </a:solidFill>
                <a:latin typeface="Minya Nouvelle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Content Placeholder 3" descr="wilmington__nc.jpg"/>
          <p:cNvPicPr/>
          <p:nvPr/>
        </p:nvPicPr>
        <p:blipFill>
          <a:blip r:embed="rId1"/>
          <a:stretch/>
        </p:blipFill>
        <p:spPr>
          <a:xfrm>
            <a:off x="1870200" y="2049480"/>
            <a:ext cx="5403600" cy="362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Bradley Hand ITC"/>
              </a:rPr>
              <a:t>I graduated from UNC-Greensboro, where I received my degree in Elementary Educatio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Content Placeholder 3" descr="euc_ttl.jpg"/>
          <p:cNvPicPr/>
          <p:nvPr/>
        </p:nvPicPr>
        <p:blipFill>
          <a:blip r:embed="rId1"/>
          <a:stretch/>
        </p:blipFill>
        <p:spPr>
          <a:xfrm>
            <a:off x="1657440" y="1630440"/>
            <a:ext cx="5829120" cy="4467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UNCG_Logo.gif"/>
          <p:cNvPicPr/>
          <p:nvPr/>
        </p:nvPicPr>
        <p:blipFill>
          <a:blip r:embed="rId2"/>
          <a:stretch/>
        </p:blipFill>
        <p:spPr>
          <a:xfrm>
            <a:off x="1676520" y="4495680"/>
            <a:ext cx="171432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Bradley Hand ITC"/>
              </a:rPr>
              <a:t>I love playing in the snow, and there was a lot of it in Greensboro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ontent Placeholder 5" descr="DSCN0504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74680"/>
            <a:ext cx="8915400" cy="21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7c80"/>
                </a:solidFill>
                <a:latin typeface="Bradley Hand ITC"/>
              </a:rPr>
              <a:t>I have one lazy house cat named Oliver.  I also rescued a dog from the animal shelter who’s named Jax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Content Placeholder 3" descr=""/>
          <p:cNvPicPr/>
          <p:nvPr/>
        </p:nvPicPr>
        <p:blipFill>
          <a:blip r:embed="rId1"/>
          <a:stretch/>
        </p:blipFill>
        <p:spPr>
          <a:xfrm>
            <a:off x="1523880" y="2438280"/>
            <a:ext cx="2914920" cy="3886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2"/>
          <a:stretch/>
        </p:blipFill>
        <p:spPr>
          <a:xfrm>
            <a:off x="4343400" y="3276720"/>
            <a:ext cx="416556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Bradley Hand ITC"/>
              </a:rPr>
              <a:t>I love all animals, and plan to volunteer at the Onslow County Animal Shelter soon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Content Placeholder 3" descr="154.JPG"/>
          <p:cNvPicPr/>
          <p:nvPr/>
        </p:nvPicPr>
        <p:blipFill>
          <a:blip r:embed="rId1"/>
          <a:stretch/>
        </p:blipFill>
        <p:spPr>
          <a:xfrm>
            <a:off x="5638680" y="4343400"/>
            <a:ext cx="3149640" cy="2362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"/>
          <p:cNvPicPr/>
          <p:nvPr/>
        </p:nvPicPr>
        <p:blipFill>
          <a:blip r:embed="rId2"/>
          <a:stretch/>
        </p:blipFill>
        <p:spPr>
          <a:xfrm>
            <a:off x="304920" y="2209680"/>
            <a:ext cx="4219560" cy="3076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3"/>
          <a:stretch/>
        </p:blipFill>
        <p:spPr>
          <a:xfrm>
            <a:off x="3429000" y="3276720"/>
            <a:ext cx="2362320" cy="314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Bradley Hand ITC"/>
              </a:rPr>
              <a:t>I enjoy traveling and try to do it every summer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Content Placeholder 5" descr="DSCN0663.JPG"/>
          <p:cNvPicPr/>
          <p:nvPr/>
        </p:nvPicPr>
        <p:blipFill>
          <a:blip r:embed="rId1"/>
          <a:stretch/>
        </p:blipFill>
        <p:spPr>
          <a:xfrm>
            <a:off x="378000" y="1447920"/>
            <a:ext cx="2365200" cy="3154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HPIM2638.JPG"/>
          <p:cNvPicPr/>
          <p:nvPr/>
        </p:nvPicPr>
        <p:blipFill>
          <a:blip r:embed="rId2"/>
          <a:stretch/>
        </p:blipFill>
        <p:spPr>
          <a:xfrm>
            <a:off x="5486400" y="1447920"/>
            <a:ext cx="3454560" cy="2590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5" descr="DSCN1328.JPG"/>
          <p:cNvPicPr/>
          <p:nvPr/>
        </p:nvPicPr>
        <p:blipFill>
          <a:blip r:embed="rId3"/>
          <a:stretch/>
        </p:blipFill>
        <p:spPr>
          <a:xfrm>
            <a:off x="533520" y="441972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7" descr="221.JPG"/>
          <p:cNvPicPr/>
          <p:nvPr/>
        </p:nvPicPr>
        <p:blipFill>
          <a:blip r:embed="rId4"/>
          <a:stretch/>
        </p:blipFill>
        <p:spPr>
          <a:xfrm>
            <a:off x="3238560" y="1774800"/>
            <a:ext cx="2171520" cy="2895480"/>
          </a:xfrm>
          <a:prstGeom prst="rect">
            <a:avLst/>
          </a:prstGeom>
          <a:ln w="0">
            <a:noFill/>
          </a:ln>
        </p:spPr>
      </p:pic>
      <p:sp>
        <p:nvSpPr>
          <p:cNvPr id="71" name="TextBox 7"/>
          <p:cNvSpPr/>
          <p:nvPr/>
        </p:nvSpPr>
        <p:spPr>
          <a:xfrm>
            <a:off x="-152280" y="10555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Arial"/>
                <a:ea typeface="Arial"/>
              </a:rPr>
              <a:t>Charleston, 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8"/>
          <p:cNvSpPr/>
          <p:nvPr/>
        </p:nvSpPr>
        <p:spPr>
          <a:xfrm>
            <a:off x="3249720" y="625968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Arial"/>
                <a:ea typeface="Arial"/>
              </a:rPr>
              <a:t>New Orleans,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0"/>
          <p:cNvSpPr/>
          <p:nvPr/>
        </p:nvSpPr>
        <p:spPr>
          <a:xfrm>
            <a:off x="6553080" y="11430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Arial"/>
                <a:ea typeface="Arial"/>
              </a:rPr>
              <a:t>Washington, 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1"/>
          <p:cNvSpPr/>
          <p:nvPr/>
        </p:nvSpPr>
        <p:spPr>
          <a:xfrm>
            <a:off x="2922480" y="14256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Arial"/>
                <a:ea typeface="Arial"/>
              </a:rPr>
              <a:t>New York, 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5"/>
          <a:stretch/>
        </p:blipFill>
        <p:spPr>
          <a:xfrm>
            <a:off x="5513400" y="3798720"/>
            <a:ext cx="2293920" cy="3059280"/>
          </a:xfrm>
          <a:prstGeom prst="rect">
            <a:avLst/>
          </a:prstGeom>
          <a:ln w="0">
            <a:noFill/>
          </a:ln>
        </p:spPr>
      </p:pic>
      <p:sp>
        <p:nvSpPr>
          <p:cNvPr id="76" name="TextBox 8"/>
          <p:cNvSpPr/>
          <p:nvPr/>
        </p:nvSpPr>
        <p:spPr>
          <a:xfrm>
            <a:off x="7718400" y="4267080"/>
            <a:ext cx="140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Arial"/>
                <a:ea typeface="Arial"/>
              </a:rPr>
              <a:t>Savannah, 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7c80"/>
              </a:solidFill>
              <a:latin typeface="Bradley Hand ITC"/>
            </a:endParaRPr>
          </a:p>
        </p:txBody>
      </p:sp>
      <p:pic>
        <p:nvPicPr>
          <p:cNvPr id="78" name="Picture 8" descr="HPIM2418.JPG"/>
          <p:cNvPicPr/>
          <p:nvPr/>
        </p:nvPicPr>
        <p:blipFill>
          <a:blip r:embed="rId1"/>
          <a:stretch/>
        </p:blipFill>
        <p:spPr>
          <a:xfrm>
            <a:off x="380880" y="22860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79" name="TextBox 9"/>
          <p:cNvSpPr/>
          <p:nvPr/>
        </p:nvSpPr>
        <p:spPr>
          <a:xfrm>
            <a:off x="762120" y="30481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Arial"/>
                <a:ea typeface="Arial"/>
              </a:rPr>
              <a:t>Cape Cod, 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3" descr="boone.jpg"/>
          <p:cNvPicPr/>
          <p:nvPr/>
        </p:nvPicPr>
        <p:blipFill>
          <a:blip r:embed="rId2"/>
          <a:stretch/>
        </p:blipFill>
        <p:spPr>
          <a:xfrm>
            <a:off x="282600" y="3538440"/>
            <a:ext cx="3505320" cy="2629080"/>
          </a:xfrm>
          <a:prstGeom prst="rect">
            <a:avLst/>
          </a:prstGeom>
          <a:ln w="0">
            <a:noFill/>
          </a:ln>
        </p:spPr>
      </p:pic>
      <p:sp>
        <p:nvSpPr>
          <p:cNvPr id="81" name="TextBox 9"/>
          <p:cNvSpPr/>
          <p:nvPr/>
        </p:nvSpPr>
        <p:spPr>
          <a:xfrm>
            <a:off x="6019920" y="547524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Arial"/>
                <a:ea typeface="Arial"/>
              </a:rPr>
              <a:t>Groton, 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5" descr="maine.jpg"/>
          <p:cNvPicPr/>
          <p:nvPr/>
        </p:nvPicPr>
        <p:blipFill>
          <a:blip r:embed="rId3"/>
          <a:stretch/>
        </p:blipFill>
        <p:spPr>
          <a:xfrm>
            <a:off x="4070520" y="581040"/>
            <a:ext cx="2625480" cy="3581280"/>
          </a:xfrm>
          <a:prstGeom prst="rect">
            <a:avLst/>
          </a:prstGeom>
          <a:ln w="0">
            <a:noFill/>
          </a:ln>
        </p:spPr>
      </p:pic>
      <p:sp>
        <p:nvSpPr>
          <p:cNvPr id="83" name="TextBox 9"/>
          <p:cNvSpPr/>
          <p:nvPr/>
        </p:nvSpPr>
        <p:spPr>
          <a:xfrm>
            <a:off x="4419720" y="1951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Arial"/>
                <a:ea typeface="Arial"/>
              </a:rPr>
              <a:t>Portland,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4"/>
          <a:stretch/>
        </p:blipFill>
        <p:spPr>
          <a:xfrm>
            <a:off x="6605640" y="1278000"/>
            <a:ext cx="2538360" cy="3386160"/>
          </a:xfrm>
          <a:prstGeom prst="rect">
            <a:avLst/>
          </a:prstGeom>
          <a:ln w="0">
            <a:noFill/>
          </a:ln>
        </p:spPr>
      </p:pic>
      <p:sp>
        <p:nvSpPr>
          <p:cNvPr id="85" name="TextBox 9"/>
          <p:cNvSpPr/>
          <p:nvPr/>
        </p:nvSpPr>
        <p:spPr>
          <a:xfrm>
            <a:off x="6605640" y="9367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Arial"/>
                <a:ea typeface="Arial"/>
              </a:rPr>
              <a:t>Cape Hatteras, 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5"/>
          <a:stretch/>
        </p:blipFill>
        <p:spPr>
          <a:xfrm>
            <a:off x="3330720" y="351792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87" name="TextBox 9"/>
          <p:cNvSpPr/>
          <p:nvPr/>
        </p:nvSpPr>
        <p:spPr>
          <a:xfrm>
            <a:off x="762120" y="617868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Arial"/>
                <a:ea typeface="Arial"/>
              </a:rPr>
              <a:t>Boone, 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Bradley Hand ITC"/>
              </a:rPr>
              <a:t>Other activities that interest me would be watching movies, running, reading, and cooking, but most of all……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toy-story-3-560x314.jpg"/>
          <p:cNvPicPr/>
          <p:nvPr/>
        </p:nvPicPr>
        <p:blipFill>
          <a:blip r:embed="rId1"/>
          <a:stretch/>
        </p:blipFill>
        <p:spPr>
          <a:xfrm>
            <a:off x="380880" y="1828800"/>
            <a:ext cx="5334120" cy="2990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C:\Users\brookie\AppData\Local\Microsoft\Windows\Temporary Internet Files\Content.IE5\W0E4ZFUO\MC900447167[1].jpg"/>
          <p:cNvPicPr/>
          <p:nvPr/>
        </p:nvPicPr>
        <p:blipFill>
          <a:blip r:embed="rId2"/>
          <a:stretch/>
        </p:blipFill>
        <p:spPr>
          <a:xfrm>
            <a:off x="762120" y="4494240"/>
            <a:ext cx="1373040" cy="2058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DSCN2146.JPG"/>
          <p:cNvPicPr/>
          <p:nvPr/>
        </p:nvPicPr>
        <p:blipFill>
          <a:blip r:embed="rId3"/>
          <a:stretch/>
        </p:blipFill>
        <p:spPr>
          <a:xfrm>
            <a:off x="5638680" y="4191120"/>
            <a:ext cx="3353040" cy="2514600"/>
          </a:xfrm>
          <a:prstGeom prst="rect">
            <a:avLst/>
          </a:prstGeom>
          <a:ln w="0">
            <a:noFill/>
          </a:ln>
        </p:spPr>
      </p:pic>
      <p:pic>
        <p:nvPicPr>
          <p:cNvPr id="92" name="Content Placeholder 3" descr=""/>
          <p:cNvPicPr/>
          <p:nvPr/>
        </p:nvPicPr>
        <p:blipFill>
          <a:blip r:embed="rId4"/>
          <a:stretch/>
        </p:blipFill>
        <p:spPr>
          <a:xfrm>
            <a:off x="6943680" y="1447920"/>
            <a:ext cx="2059200" cy="3219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1T13:47:22Z</dcterms:created>
  <dc:creator>brookie</dc:creator>
  <dc:description/>
  <dc:language>en-US</dc:language>
  <cp:lastModifiedBy>Brooke</cp:lastModifiedBy>
  <dcterms:modified xsi:type="dcterms:W3CDTF">2014-07-15T22:42:07Z</dcterms:modified>
  <cp:revision>27</cp:revision>
  <dc:subject/>
  <dc:title>All About Ms. Bats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29169990</vt:lpwstr>
  </property>
</Properties>
</file>